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C4E-58E8-4B95-9372-6CB78AA0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209-7EA6-4BAA-A4D4-BB10D614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B27-613C-4D38-9DF8-6B5222EF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7590-3029-4CA8-8495-FB57BC6A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FCD-D2FD-476A-8196-6839FF53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FED-64D0-45BF-AB79-5D34BB01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4AD-D7E6-4BE0-96DD-4942FDE8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D06-2DA2-4CE3-9DF8-ADD33448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C59-EE25-4CFF-8CE1-F791D9B0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D56F-7461-4FC1-AEFE-58B464FA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627-0181-4CE3-A4D9-36A8E1ED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A63-AE16-437A-ABD6-903A41D7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4C5E-F876-4872-9BA2-A1FAFD2D1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1974960" y="927000"/>
            <a:ext cx="5297400" cy="11462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755640" y="1841400"/>
            <a:ext cx="2127240" cy="114624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5" descr=""/>
          <p:cNvPicPr/>
          <p:nvPr/>
        </p:nvPicPr>
        <p:blipFill>
          <a:blip r:embed="rId3"/>
          <a:stretch/>
        </p:blipFill>
        <p:spPr>
          <a:xfrm>
            <a:off x="2146320" y="1957320"/>
            <a:ext cx="2846520" cy="112716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530440" y="2792520"/>
            <a:ext cx="2419560" cy="1109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7" descr=""/>
          <p:cNvPicPr/>
          <p:nvPr/>
        </p:nvPicPr>
        <p:blipFill>
          <a:blip r:embed="rId5"/>
          <a:stretch/>
        </p:blipFill>
        <p:spPr>
          <a:xfrm>
            <a:off x="2975040" y="3670200"/>
            <a:ext cx="2571840" cy="11462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8" descr=""/>
          <p:cNvPicPr/>
          <p:nvPr/>
        </p:nvPicPr>
        <p:blipFill>
          <a:blip r:embed="rId6"/>
          <a:stretch/>
        </p:blipFill>
        <p:spPr>
          <a:xfrm>
            <a:off x="3475080" y="4657680"/>
            <a:ext cx="22064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1511280" y="622440"/>
            <a:ext cx="6267600" cy="114588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4" descr=""/>
          <p:cNvPicPr/>
          <p:nvPr/>
        </p:nvPicPr>
        <p:blipFill>
          <a:blip r:embed="rId2"/>
          <a:stretch/>
        </p:blipFill>
        <p:spPr>
          <a:xfrm>
            <a:off x="2871720" y="2401920"/>
            <a:ext cx="3737160" cy="1116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5" descr=""/>
          <p:cNvPicPr/>
          <p:nvPr/>
        </p:nvPicPr>
        <p:blipFill>
          <a:blip r:embed="rId3"/>
          <a:stretch/>
        </p:blipFill>
        <p:spPr>
          <a:xfrm>
            <a:off x="2286000" y="4322880"/>
            <a:ext cx="47973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352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s chansons preferees sont “Not Afraid”, “When I’m Gone”, et “Savior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enem et Rise Against chantent nos chansons prefere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s styles de musique preferees sont rap et po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Quand nous ecoutons nos chansons preferees, nous entendons un message de col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 theme de nos chansons preferees est la col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e joue de la guitare, et j’aimerais jouer la batter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Quand nous ecoutons du rap, nous entendons le rythme de la vo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Quand nous ecoutons du rap, nous nous sentons exci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Quand nous entendons cette musique, nous sentons une sensation de per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5" descr=""/>
          <p:cNvPicPr/>
          <p:nvPr/>
        </p:nvPicPr>
        <p:blipFill>
          <a:blip r:embed="rId1"/>
          <a:stretch/>
        </p:blipFill>
        <p:spPr>
          <a:xfrm>
            <a:off x="1006560" y="622440"/>
            <a:ext cx="6265800" cy="11458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2" descr=""/>
          <p:cNvPicPr/>
          <p:nvPr/>
        </p:nvPicPr>
        <p:blipFill>
          <a:blip r:embed="rId2"/>
          <a:stretch/>
        </p:blipFill>
        <p:spPr>
          <a:xfrm>
            <a:off x="1974960" y="2414520"/>
            <a:ext cx="4213080" cy="193824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3" descr=""/>
          <p:cNvPicPr/>
          <p:nvPr/>
        </p:nvPicPr>
        <p:blipFill>
          <a:blip r:embed="rId3"/>
          <a:stretch/>
        </p:blipFill>
        <p:spPr>
          <a:xfrm>
            <a:off x="1908000" y="4705200"/>
            <a:ext cx="47977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049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nd nous ecoutons nos chansons preferees, nous entendons un message de col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 theme de nos chansons preferees est la col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e joue de la guitare, et j’aimerais jouer la batter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nd nous ecoutons du rap, nous entendons le rythme de la voix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nd nous ecoutons du rap, nous nous sentons se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nd nous entendons cette musique, nous imaginons quelque chose la doul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3" descr=""/>
          <p:cNvPicPr/>
          <p:nvPr/>
        </p:nvPicPr>
        <p:blipFill>
          <a:blip r:embed="rId1"/>
          <a:stretch/>
        </p:blipFill>
        <p:spPr>
          <a:xfrm>
            <a:off x="1116000" y="396720"/>
            <a:ext cx="7132680" cy="114012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4" descr=""/>
          <p:cNvPicPr/>
          <p:nvPr/>
        </p:nvPicPr>
        <p:blipFill>
          <a:blip r:embed="rId2"/>
          <a:stretch/>
        </p:blipFill>
        <p:spPr>
          <a:xfrm>
            <a:off x="2914560" y="2792520"/>
            <a:ext cx="3022560" cy="113328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5" descr=""/>
          <p:cNvPicPr/>
          <p:nvPr/>
        </p:nvPicPr>
        <p:blipFill>
          <a:blip r:embed="rId3"/>
          <a:stretch/>
        </p:blipFill>
        <p:spPr>
          <a:xfrm>
            <a:off x="1450800" y="4780080"/>
            <a:ext cx="63579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304920" y="83808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d nous ecoutons nos chansons preferees, nous entendons un message de col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 theme de nos chansons preferees est la col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joue de la guitare, et j’aimerais jouer la instrument electr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d nous ecoutons du pop, nous entendons le rythme des instru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d nous ecoutons du pop, nous nous sentons cal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d nous entendons cette musique, nous imaginons quelque chose a develop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2432160" y="2120760"/>
            <a:ext cx="376704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2:04Z</dcterms:created>
  <dc:creator>McDonald-O'Donnell, Dalton</dc:creator>
  <dc:description/>
  <dc:language>en-US</dc:language>
  <cp:lastModifiedBy> </cp:lastModifiedBy>
  <dcterms:modified xsi:type="dcterms:W3CDTF">2010-10-21T13:15:28Z</dcterms:modified>
  <cp:revision>11</cp:revision>
  <dc:subject/>
  <dc:title>Slide 1</dc:title>
</cp:coreProperties>
</file>